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C94-01F1-4ED4-9C03-25772613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5A3-A4E2-4010-8E2B-1F364582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309-FFBA-442C-9B18-6FBC5838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6CF-7F42-4DB3-B711-DE8F66BC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FD4-B5A3-4D28-8E50-E9FA0EA8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CFB-DAA6-4313-A3A5-C5D3A57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1D90-CFA7-4B6A-9D73-86801D7A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456-4A73-4092-AD7C-4126602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0FE-2D45-4B37-BCAC-777D5BF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9473-927A-4A10-8083-DB8328F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67E-52CF-48D1-AE3F-2888DBD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7CB-0914-4B96-AA80-02114FB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4395-33FA-485A-952C-E998A39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AECE-70E6-4EC2-8A52-FF75CB5F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FFF-B313-4414-B6F7-A97CCAF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EC6E-5762-4C67-8968-3D19836C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763-4812-43FF-B2F5-95AF4F9A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94B-5889-4FE8-8455-B84C815D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FA8-CA1C-4869-BFBF-1BE76D2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F98-210B-409B-843D-B5BFEC2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F50-B061-4D3A-85EB-67FD8BE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86F-B322-48EB-896D-6261AA7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ABF-28AE-494D-B92B-EEC9A39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51F-EEED-4BC6-B2A0-04369DC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340-8438-4D55-8D1D-24476A93121F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d1e8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EDE-4E8A-4865-9D94-49140E4C477D}" type="slidenum">
              <a:rPr b="0" lang="ro-RO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KW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L Diagra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/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24000" y="422100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Food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Language of F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6640"/>
          <a:ext cx="7772400" cy="410508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antifiers Used for Food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932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eals of the Day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- What’s on the Menu?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276640"/>
          <a:ext cx="7773840" cy="3914640"/>
        </p:xfrm>
        <a:graphic>
          <a:graphicData uri="http://schemas.openxmlformats.org/drawingml/2006/table">
            <a:tbl>
              <a:tblPr/>
              <a:tblGrid>
                <a:gridCol w="2232000"/>
                <a:gridCol w="266544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ealthy Ea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349360"/>
          <a:ext cx="7772400" cy="410544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71640" y="2276640"/>
          <a:ext cx="7772400" cy="411444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omanian Recip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 craciun</cp:lastModifiedBy>
  <dcterms:modified xsi:type="dcterms:W3CDTF">2011-01-14T18:49:47Z</dcterms:modified>
  <cp:revision>8</cp:revision>
  <dc:subject/>
  <dc:title>Compuşi hidroxilici</dc:title>
</cp:coreProperties>
</file>